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F0E4-A4EE-4DEE-9EFD-5CFBEE6BB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4FF2-7470-43F7-A2A6-2347BF86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4EDF-20B6-48FE-9B4F-9E3A115EB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B09B-FCD9-4CD9-B271-3D1AC3A90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E523-8910-4EE9-ABC4-B46A2B5F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4F36-A5A3-4050-927A-570C24A1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197E-E428-496D-BE13-48C1CF9F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D118-3068-4D57-B547-C50C1A4C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C78F-0638-4A2A-8D92-849070BA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34A2-7AD2-4009-A355-EFE515C2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BCF2-3ECF-4582-9082-3356D1B5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20AC-A838-4F11-A0A2-8AEBC98D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AA7F-3EC7-4F62-BE02-2EA7B30DA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828800" y="609480"/>
            <a:ext cx="56386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Poor Richard"/>
              </a:rPr>
              <a:t>Legends Of Rock</a:t>
            </a:r>
            <a:endParaRPr b="0" lang="en-US" sz="5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Poor Richard"/>
              <a:ea typeface="Poor Richard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600200" y="4572000"/>
            <a:ext cx="55720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80's rock legends and icons:p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50000">
              <a:srgbClr val="f8b049"/>
            </a:gs>
            <a:gs pos="100000">
              <a:srgbClr val="fc9fc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Fort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2819520" cy="2254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705720" y="4686480"/>
            <a:ext cx="2171520" cy="21715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626160" y="380880"/>
            <a:ext cx="2517840" cy="1889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28600" y="4686480"/>
            <a:ext cx="1541520" cy="2171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3657600" y="3049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3048120" y="5181480"/>
            <a:ext cx="2657520" cy="1927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6324480" y="2666880"/>
            <a:ext cx="2060640" cy="1908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1371600" y="2666880"/>
            <a:ext cx="5257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Lucida Handwriting"/>
              </a:rPr>
              <a:t>THE END :)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Lucida Handwriting"/>
              <a:ea typeface="Lucida Handwriting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a5002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w Cen MT Condensed Extra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y formed in 1977 in Sheffield, England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y have sold over 65,000,000 albums and 35,000,000 in the U.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There Most Famous Album is Rock Of Ages, and they just recently released there new album Songs From the Sparkle Loun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934320" y="1600200"/>
            <a:ext cx="1562040" cy="1552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0" y="4114800"/>
            <a:ext cx="3038400" cy="1839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114800" y="160020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905120" y="0"/>
            <a:ext cx="46479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Blackadder ITC"/>
              </a:rPr>
              <a:t>Def  Leppard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Blackadder ITC"/>
              <a:ea typeface="Blackadder ITC"/>
            </a:endParaRPr>
          </a:p>
        </p:txBody>
      </p:sp>
    </p:spTree>
  </p:cSld>
  <p:transition spd="med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9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Font typeface="MS Minch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MS Mincho"/>
              </a:rPr>
              <a:t>They were Formed in 1981 in Las Angeles Califor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Font typeface="MS Minch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MS Mincho"/>
              </a:rPr>
              <a:t>Nikki Sixx and Tommy Lee are the founders of the b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Font typeface="MS Minch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MS Mincho"/>
              </a:rPr>
              <a:t>There one most famous and popular song is Dr.Feelgo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648480" y="1371600"/>
            <a:ext cx="2495520" cy="1677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343400" y="4114800"/>
            <a:ext cx="2381400" cy="2381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 rot="5400000">
            <a:off x="-2857320" y="3085920"/>
            <a:ext cx="662940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Bookman Old Style"/>
              </a:rPr>
              <a:t>Motley Crue 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med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High Tower Tex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lbertus"/>
              </a:rPr>
              <a:t>From Hollywood Califor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lbertus"/>
              </a:rPr>
              <a:t>The song Heaven Reached #2 on the charts a week</a:t>
            </a:r>
            <a:r>
              <a:rPr b="0" lang="en-US" sz="2400" spc="-1" strike="noStrike">
                <a:solidFill>
                  <a:srgbClr val="00cc00"/>
                </a:solidFill>
                <a:latin typeface="Albertu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lbertus"/>
              </a:rPr>
              <a:t>after it was relea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lbertus"/>
              </a:rPr>
              <a:t>There most Famous song ever written was “Cherry Pi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867280" y="440064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495680" y="13716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0" y="0"/>
            <a:ext cx="6629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"/>
              </a:rPr>
              <a:t>Warrant 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"/>
              <a:ea typeface="comic"/>
            </a:endParaRPr>
          </a:p>
        </p:txBody>
      </p:sp>
    </p:spTree>
  </p:cSld>
  <p:transition spd="med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541800"/>
            <a:ext cx="822960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Bradley Hand ITC"/>
              </a:rPr>
              <a:t>They Were Formed in 19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Bradley Hand ITC"/>
              </a:rPr>
              <a:t>They have sold more then 200 million</a:t>
            </a:r>
            <a:r>
              <a:rPr b="0" lang="en-US" sz="2800" spc="-1" strike="noStrike">
                <a:solidFill>
                  <a:srgbClr val="ff0066"/>
                </a:solidFill>
                <a:latin typeface="Bradley Hand ITC"/>
              </a:rPr>
              <a:t> </a:t>
            </a:r>
            <a:r>
              <a:rPr b="0" lang="en-US" sz="2800" spc="-1" strike="noStrike">
                <a:solidFill>
                  <a:srgbClr val="ff99cc"/>
                </a:solidFill>
                <a:latin typeface="Bradley Hand ITC"/>
              </a:rPr>
              <a:t>albums worldwid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cc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cc"/>
                </a:solidFill>
                <a:latin typeface="Bradley Hand ITC"/>
              </a:rPr>
              <a:t>There best selling album was Black 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867280" y="3048120"/>
            <a:ext cx="2044800" cy="2133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371600" y="480060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495680" y="0"/>
            <a:ext cx="38862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arlow Solid Italic"/>
              </a:rPr>
              <a:t>AC/DC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arlow Solid Italic"/>
              <a:ea typeface="Harlow Solid Italic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ntique Olive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lbertus"/>
              </a:rPr>
              <a:t>There one most famous (still is) song is “More Then a Fellin” and “Don’t Stop Believen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lbertus"/>
              </a:rPr>
              <a:t>They are not quite as Famous as AC/DC,Def Leppard etc.. But they have sold over 50 million albu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99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lbertus"/>
              </a:rPr>
              <a:t>In 1995ish the band decided to break up and are no longer making mus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029200" y="2286000"/>
            <a:ext cx="3124080" cy="2781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2133720" y="228600"/>
            <a:ext cx="55623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Rockwell"/>
              </a:rPr>
              <a:t>Boston 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Rockwell"/>
              <a:ea typeface="Rockwell"/>
            </a:endParaRPr>
          </a:p>
        </p:txBody>
      </p:sp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f7f7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uhaus 93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igh Tower Text"/>
              </a:rPr>
              <a:t>This band is more of a heavy metal rock but still insanely go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igh Tower Text"/>
              </a:rPr>
              <a:t>There most popular song and still is today is Enter Sandm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igh Tower Text"/>
              </a:rPr>
              <a:t>They have released 9 studio albums, 45 singles, and 24 music vide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477120" y="457200"/>
            <a:ext cx="2361960" cy="23623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648320" y="350532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 rot="5400000">
            <a:off x="-2667240" y="2971800"/>
            <a:ext cx="6553080" cy="121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lackadder ITC"/>
              </a:rPr>
              <a:t>Metallica 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lackadder ITC"/>
              <a:ea typeface="Blackadder ITC"/>
            </a:endParaRPr>
          </a:p>
        </p:txBody>
      </p:sp>
    </p:spTree>
  </p:cSld>
  <p:transition spd="med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80808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Broadway"/>
              </a:rPr>
              <a:t>They were formed in 19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80808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Broadway"/>
              </a:rPr>
              <a:t>There 1987 album</a:t>
            </a:r>
            <a:r>
              <a:rPr b="0" lang="en-US" sz="2000" spc="-1" strike="noStrike">
                <a:solidFill>
                  <a:srgbClr val="000000"/>
                </a:solidFill>
                <a:latin typeface="Broadway"/>
              </a:rPr>
              <a:t> Appetite for Destruction was there # hit e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oadway"/>
              </a:rPr>
              <a:t>And there #1 song is Paradise C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696000" y="106668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191120" y="4348080"/>
            <a:ext cx="3752640" cy="2509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762120" y="-228600"/>
            <a:ext cx="6172200" cy="17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ill Sans Ultra Bold"/>
              </a:rPr>
              <a:t>Guns &amp; Roses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ill Sans Ultra Bold"/>
              <a:ea typeface="Gill Sans Ultra Bold"/>
            </a:endParaRPr>
          </a:p>
        </p:txBody>
      </p:sp>
    </p:spTree>
  </p:cSld>
  <p:transition spd="med"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stellar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SimSun"/>
              </a:rPr>
              <a:t>They were formed in 19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SimSun"/>
              </a:rPr>
              <a:t>Long Cold Winter hit #3 on the album charts a month la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ff"/>
                </a:solidFill>
                <a:latin typeface="SimSun"/>
              </a:rPr>
              <a:t>They are heard to be releasing a new album Rock Never Stop in 20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648320" y="2286000"/>
            <a:ext cx="2352600" cy="1820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04920" y="4629240"/>
            <a:ext cx="2266920" cy="2228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 rot="5400000">
            <a:off x="5081400" y="2690640"/>
            <a:ext cx="6553080" cy="1171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Cinderella</a:t>
            </a:r>
            <a:endParaRPr b="0" lang="en-US" sz="44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7:45:20Z</dcterms:created>
  <dc:creator>JEFFCO</dc:creator>
  <dc:description/>
  <dc:language>en-US</dc:language>
  <cp:lastModifiedBy>JEFFCO</cp:lastModifiedBy>
  <dcterms:modified xsi:type="dcterms:W3CDTF">2009-10-19T18:48:38Z</dcterms:modified>
  <cp:revision>4</cp:revision>
  <dc:subject/>
  <dc:title>Lets get Rocked </dc:title>
</cp:coreProperties>
</file>